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20.wmf" ContentType="image/x-wmf"/>
  <Override PartName="/ppt/media/image19.wmf" ContentType="image/x-wmf"/>
  <Override PartName="/ppt/media/image18.png" ContentType="image/png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F8C-06FF-4778-98F0-D8F718F3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844B-1EC1-464F-9F3E-03ED5838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B382-E289-4A49-908E-33A4A708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1F3-37BB-410B-AAD0-48B64A57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9EF-9C9D-4C51-B804-FF4609E3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ACD-4BAB-45BB-BC58-299B4867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9D6-CF46-4D18-919E-026A00E3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F93-AF6D-44B4-B17C-4392EA86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C8A-DB6B-49D8-AE11-53E0ED4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651-0DD1-462E-BDAC-828CA076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B4C-4268-49E7-884F-C928F731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788-DDC2-45C8-9734-602CAA06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3D56-0846-4E26-A70D-02A4D0506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roadway"/>
              </a:rPr>
              <a:t>¡Mi Cas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By Ciara Tomlin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tique Olive Compact"/>
              </a:rPr>
              <a:t>Aquí estí mi casa</a:t>
            </a:r>
            <a:r>
              <a:rPr b="0" lang="en-US" sz="4400" spc="-1" strike="noStrike">
                <a:solidFill>
                  <a:srgbClr val="000000"/>
                </a:solidFill>
                <a:latin typeface="Curlz MT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asa  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un casa me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gusta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catorce cuartos en mi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5194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mi cu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uarto es </a:t>
            </a: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ros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jugar, descansarme, y dormir en mi cu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1905120"/>
            <a:ext cx="1219320" cy="1147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21205200">
            <a:off x="1143000" y="4114800"/>
            <a:ext cx="14112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ba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baño es 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un frigadero blanco y as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 gusta me cepillo los dientes estí mi b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438640" cy="183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 rot="865200">
            <a:off x="6705360" y="3962160"/>
            <a:ext cx="1600200" cy="147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876920"/>
            <a:ext cx="1905120" cy="140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 rot="1062600">
            <a:off x="6543360" y="340920"/>
            <a:ext cx="1219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c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cocina 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iene de gran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 cocinar estí mi co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19720" y="1752480"/>
            <a:ext cx="2666880" cy="200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705720" y="990720"/>
            <a:ext cx="1600200" cy="178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 rot="1227600">
            <a:off x="1676160" y="4114440"/>
            <a:ext cx="1307880" cy="18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 rot="21061200">
            <a:off x="7010280" y="4343040"/>
            <a:ext cx="1179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com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omedor e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zul ma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rara vez se come aqu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 gusta comer aqui durante de las fi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2514600" cy="1887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 rot="21295200">
            <a:off x="2743200" y="4723920"/>
            <a:ext cx="1817640" cy="1650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7467480" y="152388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 s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 sala es 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ie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uestra televisión y el ordenador está aq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 gusta descansarme estí mi s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25905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086600" y="304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729080" cy="1881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 rot="946200">
            <a:off x="6248520" y="4191120"/>
            <a:ext cx="22860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2T13:02:47Z</dcterms:created>
  <dc:creator>tomlinsoncia</dc:creator>
  <dc:description/>
  <dc:language>en-US</dc:language>
  <cp:lastModifiedBy>tomlinsoncia</cp:lastModifiedBy>
  <dcterms:modified xsi:type="dcterms:W3CDTF">2012-04-25T15:56:11Z</dcterms:modified>
  <cp:revision>6</cp:revision>
  <dc:subject/>
  <dc:title>¡Mi Casa!</dc:title>
</cp:coreProperties>
</file>